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8D95-B006-4506-BF3F-3725B7DAFB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A53E-6325-4DE1-8B14-3182C240D8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DBD3-A632-4544-A99D-973F3312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A72-21AA-4875-BB1B-A66D5D73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0CA0-2575-4515-8728-2E6D5F27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16BC-C4F0-4910-8D24-36F6173D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AB1-AC88-4965-9884-5E519A95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7ED4-720B-4639-A9FD-A15B2382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798A-E70B-498A-B1E1-D4E9C3CD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9A70-826D-4FC2-9E24-EFAE092C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64C-3284-471B-A476-807FCBE7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07DA-373F-4759-B31D-FF7DB4D9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13D-A1A5-4925-9D18-671A5CEF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5FD0-3734-4CFB-A892-2DCF413F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FF87-4EC1-4223-AAE8-4CF7B7B621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static.tildacdn.com/tild6363-6463-4830-a261-346162363564/Belarus-Badge.jpg"/>
          <p:cNvPicPr/>
          <p:nvPr/>
        </p:nvPicPr>
        <p:blipFill>
          <a:blip r:embed="rId1"/>
          <a:stretch/>
        </p:blipFill>
        <p:spPr>
          <a:xfrm>
            <a:off x="-36360" y="0"/>
            <a:ext cx="3887640" cy="5167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D:\Академия управления\фото1\фон.jpg"/>
          <p:cNvPicPr/>
          <p:nvPr/>
        </p:nvPicPr>
        <p:blipFill>
          <a:blip r:embed="rId2"/>
          <a:stretch/>
        </p:blipFill>
        <p:spPr>
          <a:xfrm>
            <a:off x="5423040" y="0"/>
            <a:ext cx="3720960" cy="51436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9"/>
          <p:cNvSpPr/>
          <p:nvPr/>
        </p:nvSpPr>
        <p:spPr>
          <a:xfrm>
            <a:off x="3276720" y="771480"/>
            <a:ext cx="5460840" cy="180036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0"/>
          <p:cNvSpPr/>
          <p:nvPr/>
        </p:nvSpPr>
        <p:spPr>
          <a:xfrm>
            <a:off x="4140360" y="1133640"/>
            <a:ext cx="411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БЕЛАРУСЬ –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ТРАНА МИРА И СОГЛАС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2"/>
          <p:cNvSpPr/>
          <p:nvPr/>
        </p:nvSpPr>
        <p:spPr>
          <a:xfrm>
            <a:off x="3618000" y="1039680"/>
            <a:ext cx="179280" cy="12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3"/>
          <p:cNvSpPr/>
          <p:nvPr/>
        </p:nvSpPr>
        <p:spPr>
          <a:xfrm rot="5400000">
            <a:off x="2721600" y="4418640"/>
            <a:ext cx="179640" cy="9144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6"/>
          <p:cNvSpPr/>
          <p:nvPr/>
        </p:nvSpPr>
        <p:spPr>
          <a:xfrm>
            <a:off x="3959280" y="4192560"/>
            <a:ext cx="108000" cy="9540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8"/>
          <p:cNvSpPr/>
          <p:nvPr/>
        </p:nvSpPr>
        <p:spPr>
          <a:xfrm>
            <a:off x="4176720" y="2716200"/>
            <a:ext cx="44989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Единый день </a:t>
            </a:r>
            <a:br>
              <a:rPr sz="2300"/>
            </a:br>
            <a:r>
              <a:rPr b="1" lang="ru-RU" sz="2300" spc="-1" strike="noStrike">
                <a:solidFill>
                  <a:srgbClr val="002060"/>
                </a:solidFill>
                <a:latin typeface="Calibri"/>
              </a:rPr>
              <a:t>информирования населения 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6734160" y="44845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кабрь 2024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0"/>
          <p:cNvSpPr/>
          <p:nvPr/>
        </p:nvSpPr>
        <p:spPr>
          <a:xfrm>
            <a:off x="-36360" y="3795840"/>
            <a:ext cx="2592360" cy="7920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D:\Академия управления\фото1\лого академии.png"/>
          <p:cNvPicPr/>
          <p:nvPr/>
        </p:nvPicPr>
        <p:blipFill>
          <a:blip r:embed="rId3"/>
          <a:stretch/>
        </p:blipFill>
        <p:spPr>
          <a:xfrm>
            <a:off x="276120" y="3960720"/>
            <a:ext cx="191952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0" y="268200"/>
            <a:ext cx="3635280" cy="11509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8"/>
          <p:cNvSpPr/>
          <p:nvPr/>
        </p:nvSpPr>
        <p:spPr>
          <a:xfrm rot="5400000">
            <a:off x="8596080" y="63360"/>
            <a:ext cx="179640" cy="91584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9"/>
          <p:cNvSpPr/>
          <p:nvPr/>
        </p:nvSpPr>
        <p:spPr>
          <a:xfrm>
            <a:off x="250920" y="4443480"/>
            <a:ext cx="347400" cy="700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10"/>
          <p:cNvSpPr/>
          <p:nvPr/>
        </p:nvSpPr>
        <p:spPr>
          <a:xfrm>
            <a:off x="8820000" y="4189320"/>
            <a:ext cx="108000" cy="95436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324000" y="53028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ЕФЕРЕНДУМ 2022 ГОДА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В ЦИФР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5"/>
          <p:cNvSpPr/>
          <p:nvPr/>
        </p:nvSpPr>
        <p:spPr>
          <a:xfrm>
            <a:off x="0" y="0"/>
            <a:ext cx="2843280" cy="51595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8"/>
          <p:cNvSpPr/>
          <p:nvPr/>
        </p:nvSpPr>
        <p:spPr>
          <a:xfrm rot="5400000">
            <a:off x="8596440" y="-244440"/>
            <a:ext cx="179280" cy="91584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9"/>
          <p:cNvSpPr/>
          <p:nvPr/>
        </p:nvSpPr>
        <p:spPr>
          <a:xfrm>
            <a:off x="3038400" y="0"/>
            <a:ext cx="346320" cy="700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10"/>
          <p:cNvSpPr/>
          <p:nvPr/>
        </p:nvSpPr>
        <p:spPr>
          <a:xfrm>
            <a:off x="8820000" y="4189320"/>
            <a:ext cx="108000" cy="95436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1"/>
          <p:cNvSpPr/>
          <p:nvPr/>
        </p:nvSpPr>
        <p:spPr>
          <a:xfrm>
            <a:off x="324000" y="1814400"/>
            <a:ext cx="266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ГРАЖДАНСКОЕ ОБЩЕСТВО БЕЛАРУ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8"/>
          <p:cNvSpPr/>
          <p:nvPr/>
        </p:nvSpPr>
        <p:spPr>
          <a:xfrm rot="5400000">
            <a:off x="8596440" y="-244440"/>
            <a:ext cx="179280" cy="91584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9"/>
          <p:cNvSpPr/>
          <p:nvPr/>
        </p:nvSpPr>
        <p:spPr>
          <a:xfrm rot="5400000">
            <a:off x="176760" y="4196520"/>
            <a:ext cx="345960" cy="700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10"/>
          <p:cNvSpPr/>
          <p:nvPr/>
        </p:nvSpPr>
        <p:spPr>
          <a:xfrm>
            <a:off x="8820000" y="4189320"/>
            <a:ext cx="108000" cy="95436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6"/>
          <p:cNvSpPr/>
          <p:nvPr/>
        </p:nvSpPr>
        <p:spPr>
          <a:xfrm>
            <a:off x="243000" y="4227480"/>
            <a:ext cx="296640" cy="916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10"/>
          <p:cNvSpPr/>
          <p:nvPr/>
        </p:nvSpPr>
        <p:spPr>
          <a:xfrm rot="5400000">
            <a:off x="8345880" y="-99000"/>
            <a:ext cx="296640" cy="12985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7"/>
          <p:cNvSpPr/>
          <p:nvPr/>
        </p:nvSpPr>
        <p:spPr>
          <a:xfrm>
            <a:off x="3017880" y="-3240"/>
            <a:ext cx="1122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0" spc="-1" strike="noStrike">
                <a:solidFill>
                  <a:srgbClr val="ffffff"/>
                </a:solidFill>
                <a:latin typeface="Calibri"/>
              </a:rPr>
              <a:t>“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8"/>
          <p:cNvSpPr/>
          <p:nvPr/>
        </p:nvSpPr>
        <p:spPr>
          <a:xfrm rot="10800000">
            <a:off x="7740720" y="1798560"/>
            <a:ext cx="1233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0" spc="-1" strike="noStrike">
                <a:solidFill>
                  <a:srgbClr val="ffffff"/>
                </a:solidFill>
                <a:latin typeface="Calibri"/>
              </a:rPr>
              <a:t>“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9"/>
          <p:cNvSpPr/>
          <p:nvPr/>
        </p:nvSpPr>
        <p:spPr>
          <a:xfrm>
            <a:off x="3959280" y="671400"/>
            <a:ext cx="421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alibri"/>
              </a:rPr>
              <a:t>Принятые решения послужат прочной основой для сохранения белорусского народа как уникальной исторической общности и приумножения национального достояния, созданного целыми поколени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20"/>
          <p:cNvSpPr/>
          <p:nvPr/>
        </p:nvSpPr>
        <p:spPr>
          <a:xfrm>
            <a:off x="4013280" y="3611520"/>
            <a:ext cx="372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Президент Республики Беларусь А.Г.Лукашен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торой день заседания VII Всебелорусского народного собрания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25 апреля 2024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0" y="436680"/>
            <a:ext cx="6084720" cy="12715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7"/>
          <p:cNvSpPr/>
          <p:nvPr/>
        </p:nvSpPr>
        <p:spPr>
          <a:xfrm>
            <a:off x="684360" y="4227480"/>
            <a:ext cx="296640" cy="916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8"/>
          <p:cNvSpPr/>
          <p:nvPr/>
        </p:nvSpPr>
        <p:spPr>
          <a:xfrm rot="5400000">
            <a:off x="8345880" y="4228200"/>
            <a:ext cx="296640" cy="12985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9"/>
          <p:cNvSpPr/>
          <p:nvPr/>
        </p:nvSpPr>
        <p:spPr>
          <a:xfrm flipH="1" rot="5400000">
            <a:off x="8145360" y="-674640"/>
            <a:ext cx="92160" cy="19051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1"/>
          <p:cNvSpPr/>
          <p:nvPr/>
        </p:nvSpPr>
        <p:spPr>
          <a:xfrm>
            <a:off x="755640" y="8240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ГОСТЕПРИИМНАЯ БЕЛАРУС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5"/>
          <p:cNvSpPr/>
          <p:nvPr/>
        </p:nvSpPr>
        <p:spPr>
          <a:xfrm>
            <a:off x="0" y="339840"/>
            <a:ext cx="7596360" cy="93636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8"/>
          <p:cNvSpPr/>
          <p:nvPr/>
        </p:nvSpPr>
        <p:spPr>
          <a:xfrm rot="5400000">
            <a:off x="137880" y="1857240"/>
            <a:ext cx="181080" cy="457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10"/>
          <p:cNvSpPr/>
          <p:nvPr/>
        </p:nvSpPr>
        <p:spPr>
          <a:xfrm>
            <a:off x="403200" y="4189320"/>
            <a:ext cx="108000" cy="95436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755640" y="561960"/>
            <a:ext cx="734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БЕЗВИЗОВЫЙ ПОРЯДОК ВЪЕЗДА ДЕЙСТВУЕ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5"/>
          <p:cNvSpPr/>
          <p:nvPr/>
        </p:nvSpPr>
        <p:spPr>
          <a:xfrm>
            <a:off x="0" y="0"/>
            <a:ext cx="2843280" cy="51595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8"/>
          <p:cNvSpPr/>
          <p:nvPr/>
        </p:nvSpPr>
        <p:spPr>
          <a:xfrm rot="5400000">
            <a:off x="8596440" y="-198360"/>
            <a:ext cx="179280" cy="91584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9"/>
          <p:cNvSpPr/>
          <p:nvPr/>
        </p:nvSpPr>
        <p:spPr>
          <a:xfrm>
            <a:off x="3211560" y="0"/>
            <a:ext cx="347760" cy="700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10"/>
          <p:cNvSpPr/>
          <p:nvPr/>
        </p:nvSpPr>
        <p:spPr>
          <a:xfrm>
            <a:off x="8820000" y="4189320"/>
            <a:ext cx="108000" cy="95436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1"/>
          <p:cNvSpPr/>
          <p:nvPr/>
        </p:nvSpPr>
        <p:spPr>
          <a:xfrm>
            <a:off x="287280" y="1447920"/>
            <a:ext cx="259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КОЛИЧЕСТВО ИНОСТРАНЦЕ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РИБЫВ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БЕЛАРУСЬ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О "БЕЗВИЗУ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6"/>
          <p:cNvSpPr/>
          <p:nvPr/>
        </p:nvSpPr>
        <p:spPr>
          <a:xfrm>
            <a:off x="243000" y="4227480"/>
            <a:ext cx="296640" cy="916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10"/>
          <p:cNvSpPr/>
          <p:nvPr/>
        </p:nvSpPr>
        <p:spPr>
          <a:xfrm rot="5400000">
            <a:off x="8345880" y="-99000"/>
            <a:ext cx="296640" cy="12985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16"/>
          <p:cNvSpPr/>
          <p:nvPr/>
        </p:nvSpPr>
        <p:spPr>
          <a:xfrm>
            <a:off x="611280" y="444600"/>
            <a:ext cx="4968720" cy="4071960"/>
          </a:xfrm>
          <a:prstGeom prst="rect">
            <a:avLst/>
          </a:prstGeom>
          <a:solidFill>
            <a:srgbClr val="182c7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7"/>
          <p:cNvSpPr/>
          <p:nvPr/>
        </p:nvSpPr>
        <p:spPr>
          <a:xfrm>
            <a:off x="209520" y="50760"/>
            <a:ext cx="11224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0" spc="-1" strike="noStrike">
                <a:solidFill>
                  <a:srgbClr val="ffffff"/>
                </a:solidFill>
                <a:latin typeface="Calibri"/>
              </a:rPr>
              <a:t>“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8"/>
          <p:cNvSpPr/>
          <p:nvPr/>
        </p:nvSpPr>
        <p:spPr>
          <a:xfrm rot="10800000">
            <a:off x="4633920" y="1857240"/>
            <a:ext cx="1233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0" spc="-1" strike="noStrike">
                <a:solidFill>
                  <a:srgbClr val="ffffff"/>
                </a:solidFill>
                <a:latin typeface="Calibri"/>
              </a:rPr>
              <a:t>“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9"/>
          <p:cNvSpPr/>
          <p:nvPr/>
        </p:nvSpPr>
        <p:spPr>
          <a:xfrm>
            <a:off x="1042920" y="700200"/>
            <a:ext cx="446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Они сюда с удовольствием едут, несмотря на вранье, которое распространяют о белорусском государстве и чего бы нам это ни стоило, мы эту привлекательность должны сохранять. Я уже не раз говорил, что народы не должны страдать из-за глупости своих руков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20"/>
          <p:cNvSpPr/>
          <p:nvPr/>
        </p:nvSpPr>
        <p:spPr>
          <a:xfrm>
            <a:off x="1036800" y="3600360"/>
            <a:ext cx="450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Президент Республики Беларусь А.Г.Лукашен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Торжественная церемония чествования аграриев на фестивале-ярмарке "Дажынкі-2024" в г.Мосты  2 ноября 2024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4"/>
          <p:cNvSpPr/>
          <p:nvPr/>
        </p:nvSpPr>
        <p:spPr>
          <a:xfrm>
            <a:off x="0" y="436680"/>
            <a:ext cx="7164360" cy="12715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684360" y="4227480"/>
            <a:ext cx="296640" cy="916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8"/>
          <p:cNvSpPr/>
          <p:nvPr/>
        </p:nvSpPr>
        <p:spPr>
          <a:xfrm rot="5400000">
            <a:off x="8345880" y="4228200"/>
            <a:ext cx="296640" cy="12985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9"/>
          <p:cNvSpPr/>
          <p:nvPr/>
        </p:nvSpPr>
        <p:spPr>
          <a:xfrm flipH="1" rot="5400000">
            <a:off x="8145360" y="-674640"/>
            <a:ext cx="92160" cy="19051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Прямоугольник 1"/>
          <p:cNvSpPr/>
          <p:nvPr/>
        </p:nvSpPr>
        <p:spPr>
          <a:xfrm>
            <a:off x="755640" y="595440"/>
            <a:ext cx="648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МИРОЛЮБИВАЯ ВНЕШНЯЯ ПОЛИТИКА БЕЛАРУ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4"/>
          <p:cNvSpPr/>
          <p:nvPr/>
        </p:nvSpPr>
        <p:spPr>
          <a:xfrm>
            <a:off x="826920" y="339840"/>
            <a:ext cx="7694640" cy="1295280"/>
          </a:xfrm>
          <a:prstGeom prst="rect">
            <a:avLst/>
          </a:prstGeom>
          <a:solidFill>
            <a:srgbClr val="182c7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938160" y="457200"/>
            <a:ext cx="748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СПУБЛИКА БЕЛАРУСЬ ЯВЛЯЕТСЯ АВТОРОМ РЯДА ИНИЦИАТИВ, НАПРАВЛЕННЫХ НА УКРЕПЛЕНИЕ ГЛОБАЛЬНОЙ И РЕГИОНАЛЬНОЙ БЕЗОПАС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8"/>
          <p:cNvSpPr/>
          <p:nvPr/>
        </p:nvSpPr>
        <p:spPr>
          <a:xfrm rot="5400000">
            <a:off x="1754640" y="4597920"/>
            <a:ext cx="180720" cy="916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9"/>
          <p:cNvSpPr/>
          <p:nvPr/>
        </p:nvSpPr>
        <p:spPr>
          <a:xfrm>
            <a:off x="250920" y="-20520"/>
            <a:ext cx="436320" cy="91584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11"/>
          <p:cNvSpPr/>
          <p:nvPr/>
        </p:nvSpPr>
        <p:spPr>
          <a:xfrm>
            <a:off x="8675640" y="4192560"/>
            <a:ext cx="109440" cy="9540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12"/>
          <p:cNvSpPr/>
          <p:nvPr/>
        </p:nvSpPr>
        <p:spPr>
          <a:xfrm>
            <a:off x="762120" y="3651120"/>
            <a:ext cx="783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ще будучи в составе СССР, Беларусь регулярно инициировала принятие Генеральной Ассамблеей ООН резолюции «Запрещение разработки и производства новых видов оружия массового уничтожения и новых систем такого оружия: доклад Конференции по разоружению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539640" y="1541520"/>
            <a:ext cx="48992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ЭТНОКОНФЕССИОНАЛЬНАЯ ПОЛИТИКА БЕЛАРУСИ – ЗАЛОГ ГРАЖДАНСКОГО МИРА И СОГЛАСИЯ В ОБЩЕСТВ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ОБЩЕСТВЕННОЕ СОГЛАСИЕ КАК ОСНОВА СТАБИЛЬНОГО РАЗВИТИЯ БЕЛОРУССКОГО ОБЩЕСТВ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ГОСТЕПРИИМНАЯ БЕЛАРУСЬ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МИРОЛЮБИВАЯ ВНЕШНЯЯ ПОЛИТИКА БЕЛАРУС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5889600" y="4192560"/>
            <a:ext cx="108000" cy="9540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1"/>
          <p:cNvSpPr/>
          <p:nvPr/>
        </p:nvSpPr>
        <p:spPr>
          <a:xfrm>
            <a:off x="0" y="436680"/>
            <a:ext cx="5651640" cy="81576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2"/>
          <p:cNvSpPr/>
          <p:nvPr/>
        </p:nvSpPr>
        <p:spPr>
          <a:xfrm>
            <a:off x="965160" y="582480"/>
            <a:ext cx="36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СНОВНЫЕ АСПЕК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3"/>
          <p:cNvSpPr/>
          <p:nvPr/>
        </p:nvSpPr>
        <p:spPr>
          <a:xfrm>
            <a:off x="603360" y="547560"/>
            <a:ext cx="179280" cy="59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514656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29"/>
          <p:cNvSpPr/>
          <p:nvPr/>
        </p:nvSpPr>
        <p:spPr>
          <a:xfrm>
            <a:off x="934920" y="341280"/>
            <a:ext cx="8209080" cy="12636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1"/>
          <p:cNvSpPr/>
          <p:nvPr/>
        </p:nvSpPr>
        <p:spPr>
          <a:xfrm>
            <a:off x="1327320" y="465120"/>
            <a:ext cx="749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ОКТЯБРЕ 2023 Г. И В ОКТЯБРЕ–НОЯБРЕ 2024 Г. В Г.МИНСКЕ ПРОШЛИ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II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МЕЖДУНАРОДНЫЕ КОНФЕРЕНЦИИ ПО ЕВРАЗИЙСКОЙ БЕЗОПАС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33"/>
          <p:cNvSpPr/>
          <p:nvPr/>
        </p:nvSpPr>
        <p:spPr>
          <a:xfrm rot="5400000">
            <a:off x="1754640" y="4597920"/>
            <a:ext cx="180720" cy="916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34"/>
          <p:cNvSpPr/>
          <p:nvPr/>
        </p:nvSpPr>
        <p:spPr>
          <a:xfrm>
            <a:off x="322200" y="-7920"/>
            <a:ext cx="434880" cy="700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2556000" y="3997440"/>
            <a:ext cx="62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АЧАТА РАЗРАБОТКА «ЕВРАЗИЙСКОЙ ХАРТИИ МНОГООБРАЗИЯ И МНОГОПОЛЯРНОСТИ В XXI ВЕК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4"/>
          <p:cNvSpPr/>
          <p:nvPr/>
        </p:nvSpPr>
        <p:spPr>
          <a:xfrm>
            <a:off x="6480" y="436680"/>
            <a:ext cx="4852800" cy="170316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ик 7"/>
          <p:cNvSpPr/>
          <p:nvPr/>
        </p:nvSpPr>
        <p:spPr>
          <a:xfrm>
            <a:off x="826920" y="4227480"/>
            <a:ext cx="297000" cy="916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ик 8"/>
          <p:cNvSpPr/>
          <p:nvPr/>
        </p:nvSpPr>
        <p:spPr>
          <a:xfrm rot="5400000">
            <a:off x="8345880" y="4228200"/>
            <a:ext cx="296640" cy="12985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9"/>
          <p:cNvSpPr/>
          <p:nvPr/>
        </p:nvSpPr>
        <p:spPr>
          <a:xfrm flipH="1" rot="5400000">
            <a:off x="8145360" y="-674640"/>
            <a:ext cx="92160" cy="19051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Прямоугольник 1"/>
          <p:cNvSpPr/>
          <p:nvPr/>
        </p:nvSpPr>
        <p:spPr>
          <a:xfrm>
            <a:off x="755640" y="56052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АКТИВИЗИРУЮТСЯ ПРОЦЕССЫ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ЕГИОНАЛИЗАЦИИ И ФОРМИРОВАНИЯ НОВЫХ ЦЕНТРОВ СИЛ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85" name="TextBox 5"/>
          <p:cNvSpPr/>
          <p:nvPr/>
        </p:nvSpPr>
        <p:spPr>
          <a:xfrm>
            <a:off x="971640" y="515880"/>
            <a:ext cx="4248000" cy="32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Calibri"/>
              </a:rPr>
              <a:t>Все трудятся на общий результат. Все разные, а семья одна. И ответственность за нее тоже общая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Calibri"/>
              </a:rPr>
              <a:t>Разорвать и прихватить Беларусь желающих много. Как только расслабимся и самоуспокоимся – исчезнем с карты мира. Как уже говорил, в следующие пять лет отшлифуем страну и приведем </a:t>
            </a:r>
            <a:br>
              <a:rPr sz="1900"/>
            </a:br>
            <a:r>
              <a:rPr b="1" i="1" lang="ru-RU" sz="1900" spc="-1" strike="noStrike">
                <a:solidFill>
                  <a:srgbClr val="ffffff"/>
                </a:solidFill>
                <a:latin typeface="Calibri"/>
              </a:rPr>
              <a:t>ее в идеальное состояние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6"/>
          <p:cNvSpPr/>
          <p:nvPr/>
        </p:nvSpPr>
        <p:spPr>
          <a:xfrm>
            <a:off x="243000" y="4227480"/>
            <a:ext cx="296640" cy="916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34920" y="-236520"/>
            <a:ext cx="84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0" spc="-1" strike="noStrike">
                <a:solidFill>
                  <a:srgbClr val="ffffff"/>
                </a:solidFill>
                <a:latin typeface="Calibri"/>
              </a:rPr>
              <a:t>“</a:t>
            </a:r>
            <a:endParaRPr b="0" lang="en-US" sz="1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8"/>
          <p:cNvSpPr/>
          <p:nvPr/>
        </p:nvSpPr>
        <p:spPr>
          <a:xfrm rot="10800000">
            <a:off x="4427280" y="2017440"/>
            <a:ext cx="1020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0" spc="-1" strike="noStrike">
                <a:solidFill>
                  <a:srgbClr val="ffffff"/>
                </a:solidFill>
                <a:latin typeface="Calibri"/>
              </a:rPr>
              <a:t>“</a:t>
            </a:r>
            <a:endParaRPr b="0" lang="en-US" sz="1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10"/>
          <p:cNvSpPr/>
          <p:nvPr/>
        </p:nvSpPr>
        <p:spPr>
          <a:xfrm rot="5400000">
            <a:off x="8563320" y="118080"/>
            <a:ext cx="296640" cy="86364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12"/>
          <p:cNvSpPr/>
          <p:nvPr/>
        </p:nvSpPr>
        <p:spPr>
          <a:xfrm>
            <a:off x="971640" y="3973680"/>
            <a:ext cx="4513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Президент Республики Беларусь А.Г.Лукашенк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Торжественная церемония чествования аграриев фестиваля-ярмарки "Дажынкi-2024" в г.Климовичи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Calibri"/>
              </a:rPr>
              <a:t>16 ноября 2024 г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6"/>
          <p:cNvSpPr/>
          <p:nvPr/>
        </p:nvSpPr>
        <p:spPr>
          <a:xfrm>
            <a:off x="243000" y="4227480"/>
            <a:ext cx="296640" cy="916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0"/>
          <p:cNvSpPr/>
          <p:nvPr/>
        </p:nvSpPr>
        <p:spPr>
          <a:xfrm rot="5400000">
            <a:off x="8345880" y="-99000"/>
            <a:ext cx="296640" cy="12985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16"/>
          <p:cNvSpPr/>
          <p:nvPr/>
        </p:nvSpPr>
        <p:spPr>
          <a:xfrm>
            <a:off x="611280" y="444600"/>
            <a:ext cx="4435560" cy="4254480"/>
          </a:xfrm>
          <a:prstGeom prst="rect">
            <a:avLst/>
          </a:prstGeom>
          <a:solidFill>
            <a:srgbClr val="182c7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468360" y="268200"/>
            <a:ext cx="11206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0" spc="-1" strike="noStrike">
                <a:solidFill>
                  <a:srgbClr val="ffffff"/>
                </a:solidFill>
                <a:latin typeface="Calibri"/>
              </a:rPr>
              <a:t>“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8"/>
          <p:cNvSpPr/>
          <p:nvPr/>
        </p:nvSpPr>
        <p:spPr>
          <a:xfrm rot="10800000">
            <a:off x="3708360" y="1863720"/>
            <a:ext cx="1233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0" spc="-1" strike="noStrike">
                <a:solidFill>
                  <a:srgbClr val="ffffff"/>
                </a:solidFill>
                <a:latin typeface="Calibri"/>
              </a:rPr>
              <a:t>“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1258920" y="987480"/>
            <a:ext cx="352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Мы все разные. Порой абсолютно разные. Но мы – единый белорусский народ.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По праву земли, на которой вместе живем сейчас и на которой будут жить наши дети. И для этого мы сделаем в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20"/>
          <p:cNvSpPr/>
          <p:nvPr/>
        </p:nvSpPr>
        <p:spPr>
          <a:xfrm>
            <a:off x="1284120" y="3651120"/>
            <a:ext cx="393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Президент Республики Беларусь А.Г.Лукашен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Торжественная церемония чествования аграриев 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на фестивале-ярмарке "Дажынкі-2024" в г.Мосты 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2 ноября 2024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0" y="436680"/>
            <a:ext cx="7164360" cy="163008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684360" y="4227480"/>
            <a:ext cx="296640" cy="916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8"/>
          <p:cNvSpPr/>
          <p:nvPr/>
        </p:nvSpPr>
        <p:spPr>
          <a:xfrm rot="5400000">
            <a:off x="8345880" y="4228200"/>
            <a:ext cx="296640" cy="12985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9"/>
          <p:cNvSpPr/>
          <p:nvPr/>
        </p:nvSpPr>
        <p:spPr>
          <a:xfrm flipH="1" rot="5400000">
            <a:off x="8145360" y="-674640"/>
            <a:ext cx="92160" cy="19051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1"/>
          <p:cNvSpPr/>
          <p:nvPr/>
        </p:nvSpPr>
        <p:spPr>
          <a:xfrm>
            <a:off x="755640" y="606600"/>
            <a:ext cx="561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ЭТНОКОНФЕССИОНАЛЬНЫЙ МИР: БЕЛОРУССКИЙ РЕЦЕП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480" y="0"/>
            <a:ext cx="9131040" cy="51354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7"/>
          <p:cNvSpPr/>
          <p:nvPr/>
        </p:nvSpPr>
        <p:spPr>
          <a:xfrm rot="5400000">
            <a:off x="385200" y="2114280"/>
            <a:ext cx="200160" cy="97164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3025800" y="411120"/>
            <a:ext cx="5722920" cy="83016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3665520" y="433440"/>
            <a:ext cx="51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БЕЛАРУСЬ - ГЛАВНЫЙ ПЕРЕКРЕСТОК ЕВРОПЕЙСКИХ ДОРО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3278160" y="471600"/>
            <a:ext cx="179280" cy="6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468360" y="376200"/>
            <a:ext cx="5759280" cy="161928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593640" y="547560"/>
            <a:ext cx="5491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В годы Великой Отечественной войны плечом </a:t>
            </a:r>
            <a:br>
              <a:rPr sz="1900"/>
            </a:br>
            <a:r>
              <a:rPr b="1" lang="ru-RU" sz="1900" spc="-1" strike="noStrike">
                <a:solidFill>
                  <a:srgbClr val="ffffff"/>
                </a:solidFill>
                <a:latin typeface="Calibri"/>
              </a:rPr>
              <a:t>к плечу с белорусами сражались представители 70 национальностей, всеми силами приближая Великую Победу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539640" y="2427120"/>
            <a:ext cx="3311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аршалы Победы Жуков Г.К. (русский), Баграмян И.Х. (армянин), Рокоссовский К.К. (поляк); Герои Советского Союза азербайджанец Рафиев Н.Р., армянин Авакян Г.А., казах Искалиев С., киргиз Асаналиев Дж., таджик Азизов Д., туркмен Аннаев О., узбек Якубов О., украинец Беда Л.И. и многие друг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7"/>
          <p:cNvSpPr/>
          <p:nvPr/>
        </p:nvSpPr>
        <p:spPr>
          <a:xfrm rot="5400000">
            <a:off x="385200" y="1760400"/>
            <a:ext cx="200160" cy="97164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457440" cy="5146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D:\Академия управления\фото1\фон.jpg"/>
          <p:cNvPicPr/>
          <p:nvPr/>
        </p:nvPicPr>
        <p:blipFill>
          <a:blip r:embed="rId2"/>
          <a:stretch/>
        </p:blipFill>
        <p:spPr>
          <a:xfrm>
            <a:off x="5423040" y="0"/>
            <a:ext cx="3720960" cy="51436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9"/>
          <p:cNvSpPr/>
          <p:nvPr/>
        </p:nvSpPr>
        <p:spPr>
          <a:xfrm>
            <a:off x="3025800" y="411120"/>
            <a:ext cx="5649840" cy="136836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1"/>
          <p:cNvSpPr/>
          <p:nvPr/>
        </p:nvSpPr>
        <p:spPr>
          <a:xfrm>
            <a:off x="3672000" y="531720"/>
            <a:ext cx="485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МНОГОНАЦИОНАЛЬНАЯ И МНОГОКОНФЕССИОНАЛЬНАЯ БЕЛАРУ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32"/>
          <p:cNvSpPr/>
          <p:nvPr/>
        </p:nvSpPr>
        <p:spPr>
          <a:xfrm>
            <a:off x="3278160" y="627120"/>
            <a:ext cx="1792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33"/>
          <p:cNvSpPr/>
          <p:nvPr/>
        </p:nvSpPr>
        <p:spPr>
          <a:xfrm rot="5400000">
            <a:off x="1754640" y="4597920"/>
            <a:ext cx="180720" cy="916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4"/>
          <p:cNvSpPr/>
          <p:nvPr/>
        </p:nvSpPr>
        <p:spPr>
          <a:xfrm>
            <a:off x="324000" y="0"/>
            <a:ext cx="434880" cy="700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36"/>
          <p:cNvSpPr/>
          <p:nvPr/>
        </p:nvSpPr>
        <p:spPr>
          <a:xfrm>
            <a:off x="8820000" y="4192560"/>
            <a:ext cx="108000" cy="9540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1"/>
          <p:cNvSpPr/>
          <p:nvPr/>
        </p:nvSpPr>
        <p:spPr>
          <a:xfrm>
            <a:off x="3635280" y="1995480"/>
            <a:ext cx="5040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ТНИЧЕСКОЕ РАЗНООБРАЗ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56 национальносте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проживают на белорусской земле, сохраняя традиции добрососедств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40 национально-культурных объединен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из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5 национальных общносте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зарегистрированы и активно действую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обое внимание уделяется сохранению мира, согласия и культурному развитию этнос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ЛИГИОЗНАЯ СТАБИЛЬ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5 конфессий и религиозных направлен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мирно сосуществуют в стран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 592 религиозные организац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активно работают, поддерживая духовные ценн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6"/>
          <p:cNvSpPr/>
          <p:nvPr/>
        </p:nvSpPr>
        <p:spPr>
          <a:xfrm>
            <a:off x="243000" y="4227480"/>
            <a:ext cx="296640" cy="916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10"/>
          <p:cNvSpPr/>
          <p:nvPr/>
        </p:nvSpPr>
        <p:spPr>
          <a:xfrm rot="5400000">
            <a:off x="8345880" y="-99000"/>
            <a:ext cx="296640" cy="12985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127080" y="-3240"/>
            <a:ext cx="11221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0" spc="-1" strike="noStrike">
                <a:solidFill>
                  <a:srgbClr val="ffffff"/>
                </a:solidFill>
                <a:latin typeface="Calibri"/>
              </a:rPr>
              <a:t>“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8"/>
          <p:cNvSpPr/>
          <p:nvPr/>
        </p:nvSpPr>
        <p:spPr>
          <a:xfrm rot="10800000">
            <a:off x="4067280" y="1871640"/>
            <a:ext cx="12348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0" spc="-1" strike="noStrike">
                <a:solidFill>
                  <a:srgbClr val="ffffff"/>
                </a:solidFill>
                <a:latin typeface="Calibri"/>
              </a:rPr>
              <a:t>“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971640" y="671400"/>
            <a:ext cx="453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Идея народного единства пронизывает всю нашу историю. Здесь испокон веков находили приют люди, бежавшие от религиозных войн, междоусобиц, гонений. А в дни лихолетья они объединялись с местным населением, давали отпор врагу, побеждали и сообща строили свое белорусское счастье. Таков ключ к пониманию шифра жизни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на нашей земле - нашей с в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20"/>
          <p:cNvSpPr/>
          <p:nvPr/>
        </p:nvSpPr>
        <p:spPr>
          <a:xfrm>
            <a:off x="988920" y="3611520"/>
            <a:ext cx="372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Президент Республики Беларусь А.Г.Лукашен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Встреча с представителями разных национальностей, проживающих в Беларуси </a:t>
            </a: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12 сентября 2024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4"/>
          <p:cNvSpPr/>
          <p:nvPr/>
        </p:nvSpPr>
        <p:spPr>
          <a:xfrm>
            <a:off x="0" y="436680"/>
            <a:ext cx="7164360" cy="163008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7"/>
          <p:cNvSpPr/>
          <p:nvPr/>
        </p:nvSpPr>
        <p:spPr>
          <a:xfrm>
            <a:off x="684360" y="4227480"/>
            <a:ext cx="296640" cy="91620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8"/>
          <p:cNvSpPr/>
          <p:nvPr/>
        </p:nvSpPr>
        <p:spPr>
          <a:xfrm rot="5400000">
            <a:off x="8345880" y="4228200"/>
            <a:ext cx="296640" cy="12985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9"/>
          <p:cNvSpPr/>
          <p:nvPr/>
        </p:nvSpPr>
        <p:spPr>
          <a:xfrm flipH="1" rot="5400000">
            <a:off x="8145360" y="-674640"/>
            <a:ext cx="92160" cy="1905120"/>
          </a:xfrm>
          <a:prstGeom prst="rect">
            <a:avLst/>
          </a:prstGeom>
          <a:solidFill>
            <a:srgbClr val="182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1"/>
          <p:cNvSpPr/>
          <p:nvPr/>
        </p:nvSpPr>
        <p:spPr>
          <a:xfrm>
            <a:off x="755640" y="606600"/>
            <a:ext cx="5616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ОБЩЕСТВЕННОЕ СОГЛАСИЕ КАК ОСНОВА СТАБИЛЬНОГО РАЗВИТИЯ БЕЛОРУССКОГО ОБЩЕСТ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24T10:48:12Z</dcterms:created>
  <dc:creator>Александр</dc:creator>
  <dc:description/>
  <dc:language>en-US</dc:language>
  <cp:lastModifiedBy>word2</cp:lastModifiedBy>
  <dcterms:modified xsi:type="dcterms:W3CDTF">2024-12-16T09:53:41Z</dcterms:modified>
  <cp:revision>259</cp:revision>
  <dc:subject/>
  <dc:title>Презентация PowerPoint</dc:title>
</cp:coreProperties>
</file>